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Ernesto%20Cortazar%20-morir%20de%20amor.wav" ContentType="audio/x-wav"/>
  <Override PartName="/ppt/media/image20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E91-C15E-47A5-88E4-E7276B87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A1BB-4051-4AE7-BF44-BAF279F5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E0D1-D5E7-491F-8D8A-2CFFB3B9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507E-7392-41C6-8F36-F2C70076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F2F-487A-442A-BD8C-21D0D39C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1B67-09F2-48F3-A6E5-48A309AF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02ED-B7BD-4D09-853E-92F93359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73E-8A38-41F1-AFE7-BA8AA72C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4C4-01A3-4C97-85AD-ADE7D648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7B90-220D-41C2-AA5A-9859A26B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6A9A-9044-49CF-A577-63B125DB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549-AFD3-41FE-8E40-C8ACA2C3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246E-D8E5-4A59-8702-1B1EC0415BB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audio" Target="../media/Ernesto%20Cortazar%20-morir%20de%20amor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5" descr="fleche_040.gif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 flipH="1" rot="16200000">
            <a:off x="9519480" y="6184800"/>
            <a:ext cx="219240" cy="466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dissolve/>
    <p:sndAc>
      <p:stSnd>
        <p:snd r:embed="rId3" name="Ernesto%20Cortazar%20-morir%20de%20am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5T10:09:33Z</dcterms:created>
  <dc:creator>RS</dc:creator>
  <dc:description/>
  <dc:language>en-US</dc:language>
  <cp:lastModifiedBy>RS</cp:lastModifiedBy>
  <dcterms:modified xsi:type="dcterms:W3CDTF">2015-08-05T10:06:50Z</dcterms:modified>
  <cp:revision>6</cp:revision>
  <dc:subject/>
  <dc:title>Diapositive 1</dc:title>
</cp:coreProperties>
</file>