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Ernesto%20Cortazar%20-morir%20de%20amor.wav" ContentType="audio/x-wav"/>
  <Override PartName="/ppt/media/image20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B72C-95D6-4A28-BABE-833B5B80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08CC-A068-40BB-9304-C4EBDD4E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3C23-C128-4D22-8276-C8E17478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6133-7195-4DF8-ACC9-57F7BDE3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E8B5-18D5-4D43-B093-41496CE5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A05F-BA69-4E40-AF81-7331DF86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B9ED-78A6-4CBD-8E09-3D02B28A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1BE2-D57F-4FE5-9BB7-F11E4C94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E696-2805-40E7-AF86-92D18DEF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BE89-9002-432F-AF57-F71826F7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D24B-B39D-4C57-A1B4-DEC29C6E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B08B-AB06-41F1-B8F5-678751F5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DD81-A54A-4B54-88AA-8027254F419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audio" Target="../media/Ernesto%20Cortazar%20-morir%20de%20amor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5" descr="fleche_040.gif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 flipH="1" rot="16200000">
            <a:off x="9519480" y="6184800"/>
            <a:ext cx="219240" cy="466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dissolve/>
    <p:sndAc>
      <p:stSnd>
        <p:snd r:embed="rId3" name="Ernesto%20Cortazar%20-morir%20de%20am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5T10:09:33Z</dcterms:created>
  <dc:creator>RS</dc:creator>
  <dc:description/>
  <dc:language>en-US</dc:language>
  <cp:lastModifiedBy>RS</cp:lastModifiedBy>
  <dcterms:modified xsi:type="dcterms:W3CDTF">2015-08-05T10:06:50Z</dcterms:modified>
  <cp:revision>6</cp:revision>
  <dc:subject/>
  <dc:title>Diapositive 1</dc:title>
</cp:coreProperties>
</file>