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36.jpeg" ContentType="image/jpeg"/>
  <Override PartName="/ppt/media/image2.jpeg" ContentType="image/jpeg"/>
  <Override PartName="/ppt/media/LUIS%20COBOS%20Aria%20de%20Amor%20ToscaMINI.WAV" ContentType="audio/x-wav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74EF-1EF2-453C-ADA4-B370AE00D32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C051-2607-4915-94F5-112E562C80B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2B42-EEC0-4952-BB4A-30165F9488E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3262-FB61-4694-851F-F6408AE52D2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3ECC-E411-46F4-8E23-31D374C8FD7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36EF-1CBC-40E6-AC1F-EC423370E66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11C9-2C56-4A00-9ED3-FFFD87075E0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2CC0-452B-4A49-A945-15CFD46E53D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48C0-E103-48A8-BE1B-CE522C34254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E364-1629-4F32-A8F5-AA57E8FE3B3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AFCF-BAA7-4443-BEC1-68374E291EF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C0BC-A33D-4F8E-8AE1-7B2AEA0DB6C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FAF1-D770-411B-88D2-AC589BE1785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FBB8-4F07-4997-954A-A949F3DAA55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CBEE-0743-4FE6-913A-BE885A534E5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72E7-48B9-400B-83C3-5A19665BF01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B4DF-EEEA-48E4-AC6A-D2D907E993A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B718-487B-4B55-8A57-4EDB7462F4F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548A-A40B-4969-B687-47E26404C70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1578-6126-4465-BB80-524F2DEC1BA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DF0A-CE5B-4472-9136-7796F78D28E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8CDE-C545-44E0-8EAC-9961892B39A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CFEC-86F3-419A-ABD5-A5F1BD62FDF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968B-725C-4577-8A21-5437D7D6775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238D-D576-4431-AE37-B89CBA7DECF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DDC7-06A2-4F43-897D-BAF3C1CD623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28C0-16E7-4079-8048-5B2BD53AA2E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72A8-650D-4167-BED8-A00D96A71B3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040D-7396-48CD-B3DB-3E961EF313F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8F7F-7E77-406C-A6E8-BD69D867B40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264C-9BA0-4A4C-9BC0-C1E71BF9802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178F-5CE0-4CE0-8197-AD9B221BEF7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9189-5FE8-447E-90AE-FDD274C77D2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4027-661A-465D-B5C0-FC7829104F5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A833-3538-4C39-9B03-1B6E1668D48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FC1B-7F7C-4EDD-A5EF-DDB8120DD21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61D0-9248-4AF1-AF52-18D9DF232E9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C19C-B939-4C6A-84DD-463349CFB3C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44F9-F26A-4B37-83ED-81813499D41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D8C-766F-4E64-B1B6-61840AFF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70D-7368-4FC0-A4A6-AFA1EA11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0A2-2AE8-4841-BFEC-813E9BB5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DBF-4E1E-43CE-8E1B-5E49A1A0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50E-385D-4205-9A9A-9FCDFA64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185-E260-434D-8856-EF63AF5F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975-D425-416E-8E8D-56A198B9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FB2-87C1-402B-A5B1-76DE0705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AE9-546B-445C-AC3F-91CE8090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0C6-6434-48DD-8D1C-25A364A1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878-6A16-402B-911D-1C9C4216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788-1F4D-4653-80CD-653EDCA3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C3F3-DBCF-448F-A002-8596D8F9DBB2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UIS%20COBOS%20Aria%20de%20Amor%20ToscaMINI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0_20150217_151020trv%20%5B1024x768%5D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  <p:sndAc>
      <p:stSnd>
        <p:snd r:embed="rId2" name="LUIS%20COBOS%20Aria%20de%20Amor%20ToscaMIN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10_20150217_112034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11_20150217_112119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12_20150217_112146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13_20150217_115557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BS_20150217_115451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14_20150217_121034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15_20150217_121045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6_20150217_121133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17_20150217_121145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18_20150217_131740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0_carte_modif2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19_20150217_141704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20_20150217_141723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1_20150217_141742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22_20150217_151027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23_20150217_152441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24_20150217_155119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25_20150217_155228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6_20150217_155302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27_20150217_160050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28_20150217_160206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01_20150217_091707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29_20150217_163750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30_20150217_163803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31_20150217_170237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32_20150217_170314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33_20150217_172922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34_20150217_173118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35_20150217_174634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36_20150217_174644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fin_01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02_20150217_091714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04_20150217_095136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5_20150217_095141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06_20150217_095844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07_20150217_111402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08_20150217_095856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S</cp:lastModifiedBy>
  <dcterms:modified xsi:type="dcterms:W3CDTF">2015-02-19T10:31:50Z</dcterms:modified>
  <cp:revision>8</cp:revision>
  <dc:subject/>
  <dc:title>Présentation PowerPoint</dc:title>
</cp:coreProperties>
</file>