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3.jpeg" ContentType="image/jpeg"/>
  <Override PartName="/ppt/media/image36.jpeg" ContentType="image/jpeg"/>
  <Override PartName="/ppt/media/image2.jpeg" ContentType="image/jpeg"/>
  <Override PartName="/ppt/media/LUIS%20COBOS%20Aria%20de%20Amor%20ToscaMINI.WAV" ContentType="audio/x-wav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8CFF-2E5A-4831-95C9-F9B3F71EE5C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F92D-9805-4472-AB13-B871EA16507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2E31-C4BB-4C63-94EB-AE9F7F97586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1FFF-CCA4-422B-BAA5-4F4F1E9D3E1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9561-BF91-4D5A-977B-EEF744D1ED5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AAAA-180E-43DB-814F-37452928D47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B9E4-F9B7-4967-809E-805B7A087FC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C98A-7039-455A-ADB3-A27CB3D07FD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6B5E-AE3C-4C3F-A765-D792BAB4EB5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7787-D1EC-4437-8E15-5D24F2C9D31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E06F-11A4-4627-B904-E10305BF091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AF33-77C2-47AD-BE5D-C829DD45112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3945-A1C0-40FD-80F8-D50BAC05B8B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C254-FFB5-4E04-B2DC-133301ACED0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448A-DB44-4C60-BF2E-7B303367DEB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56F7-9264-4FAF-96C4-F9335D4418D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B39C-94C3-4491-8259-CDC189AD633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77EC-B9D0-495F-A6F4-83784E25DEA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7EF5-B07F-49A7-B82E-D0210351757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B447-0DC7-4E4E-B3EA-2DB80191C39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A831-8FB5-40B9-A83E-DA39777D311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A574-742F-4449-826C-0695ABF115F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F5B8-B8AB-4F30-A49F-0FA51D704D9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36CA-8F22-4750-9186-753987D89B9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3568-F7CE-4705-80B0-8A61378C2D8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C688-1AE3-4F23-9DEE-D420215BCB2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F89A-629C-4D27-80DF-4B002D4EA14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CD46-4CF6-4F9C-9671-C6DB98E7806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C9CF-6E2A-47B6-8076-3CBDCCB65B2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AB1E-673F-41AD-93F1-E11833BF2EA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4CAC-B71D-49DF-9341-6723D5B94DD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AC61-8DCE-43C2-8B59-EB7B706CE32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6574-5504-4F21-AE9B-EC393164B5F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C9D3-29C9-4125-A5BE-9E4004CB4CE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8BBA-A1DC-4165-A476-45DEEB780F9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915B-3E1C-452A-B953-0465DA0C5A1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50AE-BEE4-48A4-A11C-6D4FFA3BF0A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A5AD-1677-410C-9C4F-8E7C469F687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ED57-4378-4B4D-B13F-80C004B6427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1B1-A863-4C2A-92E4-90B4F92D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D71-0159-4448-94CB-F927EA9E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FB6-792A-4746-A68C-4807746C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664-86FE-4D26-B622-90D8B66A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8A5-E9CD-4E28-9D8C-7F4380C0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2F9-5C85-4FC6-A60C-20243C03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8A0-FEFD-446B-9A04-01BD025D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828-25C8-4483-82CE-ECE8C3B6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75A-4F1B-4237-A3E9-E44C9C27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CC29-668E-49E2-8374-9C8FFE06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436-8ED6-4C57-BCA3-9BAC37FE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CDBA-75C5-4F34-95BF-A4168C18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B657-BC1A-4E5B-8CF7-94E55CAAE7C5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UIS%20COBOS%20Aria%20de%20Amor%20ToscaMINI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0_20150217_151020trv%20%5B1024x768%5D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  <p:sndAc>
      <p:stSnd>
        <p:snd r:embed="rId2" name="LUIS%20COBOS%20Aria%20de%20Amor%20ToscaMINI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10_20150217_112034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11_20150217_112119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12_20150217_112146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13_20150217_115557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BS_20150217_115451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14_20150217_121034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15_20150217_121045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6_20150217_121133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17_20150217_121145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18_20150217_131740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00_carte_modif2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19_20150217_141704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20_20150217_141723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1_20150217_141742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22_20150217_151027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23_20150217_152441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24_20150217_155119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25_20150217_155228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26_20150217_155302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27_20150217_160050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28_20150217_160206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01_20150217_091707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29_20150217_163750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30_20150217_163803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31_20150217_170237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32_20150217_170314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33_20150217_172922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34_20150217_173118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35_20150217_174634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36_20150217_174644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fin_01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02_20150217_091714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04_20150217_095136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05_20150217_095141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06_20150217_095844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07_20150217_111402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08_20150217_095856mc%20%5B1024x768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S</cp:lastModifiedBy>
  <dcterms:modified xsi:type="dcterms:W3CDTF">2015-02-19T10:31:50Z</dcterms:modified>
  <cp:revision>8</cp:revision>
  <dc:subject/>
  <dc:title>Présentation PowerPoint</dc:title>
</cp:coreProperties>
</file>